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9C540-EB80-4465-B75B-1A17BE827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8643F-3C5F-416A-AB50-ABDDB9466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C553D-5142-470A-BF92-72A2DB93C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F1A01-5FB8-440F-8AC2-BEBABF6E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5B618-8C77-4757-8EF3-4C998F9C5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2D63E-F239-4E02-9A7C-D591200B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D0996-BCF0-45FE-BC4D-4AB0B07D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92CEA-CF47-49B4-B9B0-58B21214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749FD-85FC-4992-ACF0-1299BE617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EBE0D-2FC4-410B-902E-D75E1A7C0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85444-DB2D-49B6-BE72-C03A32A86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3F117-3F59-450F-A599-B8538F95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888-72BE-4F03-A7F3-E7A8DA8B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136-EB41-4407-BADE-40D42E86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3ABC5-2CA3-48D1-A95C-892519B3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A1802-3FE9-4F14-A0C8-7F53BF37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2546B-BF02-418A-8DA7-95A65B8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AFF89-4E9E-417A-A98B-A95B602B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D0399-2833-4AA6-A43B-C11DC58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9F99D-D880-4D8D-A03E-CC96E1E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A8ED3-6DE3-4928-AED5-B9B84ED4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1A6EF-8E68-4868-92CD-FEAD2F5C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8EE4F-1445-40D8-B61D-9F7C39C0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6FC0F-B8F8-4752-A365-B17C02B8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881-35D5-4675-ACCD-FFBAD21C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FAA26-1C81-40E1-9098-586319B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A7FE3-AA96-41EF-973C-A624F9EE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30B93-ACE7-44E0-89B0-68739DD3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B7592-0FEB-43E0-9761-79D19B82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4DFFA-D31B-409F-9DED-55A8B25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7835B-A440-48BE-B1CD-B909CD9E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4FF53-E8A0-4862-A8DF-E46376B7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021FD-4449-4715-BAD9-2D54660C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792A8-68AC-4CA5-8221-C888F7B4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5F9CC-E0E7-4EB1-8D3C-24A2B236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C80-B2BC-4DA6-9E5C-4A8C0D88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1DEA3-5E2C-438C-ACB1-1B6116EF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9DEBD-D0D4-46DA-A5EC-4287B1BE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3996B-0419-4DD8-9ABB-5BD67E21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3AA2-507D-4B9D-9F76-4AF6DB6C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CB1D0-6B0D-4411-841E-7704684C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0EE78-7EA8-46CF-9C40-262716D1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A312E-E73A-4E26-9382-2E0BF8D8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CE7B8-F120-47C8-8C37-9264A16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9855E-1F05-4831-9AF6-DB47DCDA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1B206-FB97-48F9-9124-96ABFA0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F922-6D85-42C1-BC85-2F335F52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E03C3-A45A-409E-A3F1-897B745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C5F8F-9216-462E-AFCF-87D55003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1D493-4824-44EE-89C3-55E228B7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26104-17CB-4BE9-810D-255B349B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36DEF-B541-407B-821A-E960A732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16D7F-97AE-44A1-86AD-797831CA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6D31B-B9EF-49EB-B556-F660612B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754FA-25C7-4CF0-A181-9C674D56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FAE40-DD82-4D06-B8D1-55F4FC4B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48C9F-90E0-4ACD-920B-43C6384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6D5F-61E5-4B71-8E73-CB51D8D7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A1ADF-B172-490A-A632-E9EC73FE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7EECE-DC2F-419F-B2BF-8E917163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3DCDA-4A85-4FC4-8B90-AD82639A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D65C2-20D5-4301-AEF3-86F52F36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AE0B3-25D3-499F-8107-9D09E93B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E92D2-994D-4EB5-A57A-2913B592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9E5B2-39E2-4D09-84B6-6C1A8BD0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81450-F6DA-42E0-AA98-752432BF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F3318-73E7-4332-B83A-1F6224C5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C14E2-3290-4E77-A631-59BF6AD0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FA8C-E74E-4924-9A64-452A599F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C7EDE-F688-4959-BB2C-C6C372DC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75DD1-760D-4BCD-91D3-512505C3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8ACAF-B930-4914-B6DB-4846508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EF717-FEE6-4A1A-9D49-68E6ACA7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76E5F-4453-415E-8834-68EF9CB8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4861E-B681-4FB1-8416-DB648AB7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11855-6F50-4C2E-A0CF-C97FF96A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37DBD-E7DF-4CBD-8B44-108F003B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8D7CF-4E66-4351-BDA4-303E5B9A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D225FD-B059-4A86-AA2A-44BEDDDA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4F75-211C-4C42-9C8D-A840AB1E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795EC-6314-44A5-9182-A366D630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4641A-E953-4EBB-A6E6-C5D9E46B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8F38B-13C0-43D0-A4A7-AE5BB494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3F99E-EDBB-47DA-8C12-7B594CB7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FBA55-DD0D-4002-BFE5-9CA8C83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FBF13-AA62-4AA2-A7E7-F2AC4311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5FA29-2FBA-43C0-A6FD-A3350C92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FE6E4-0293-416B-8AA4-7308007A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7A929-4B66-409F-A921-A5A777DE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10C75-7506-467F-B4C4-C4063FF5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39A6-B232-4878-BF89-DB579192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459D0-8478-4DD5-8702-ABB81F01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BD969-2FF2-469D-97B7-61BEF7AD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D4C51-4EF9-429F-8207-37185D1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2191F-392D-4F75-81E1-F7781F87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63567-9683-4369-AE94-17868660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B1CA1-77DF-47CE-B0EC-832F334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0D469-49F6-411B-8422-A30ECBC3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2D1ED-4C35-427E-AEFC-DB4312EF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C09F1-C536-4455-AEB3-D869ED08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E5838-A4F6-479E-984C-F6E6FEA7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8904-7503-446D-80E4-92F7B580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7E07A-11C0-4699-BC34-78758882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5301D-CB4F-4A6D-8B7A-284172C3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6A3E6-F70E-4711-B3BC-77C34ADF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8ABD5-EAF5-4C70-9486-29D40860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6D31E-DA88-430F-90C6-9B77E7CD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880E8-E9B3-4548-A787-9DCB75C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C9AEB-A2C2-45C2-B3CE-61FF4FBF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15AE9-A775-484A-B5D7-CA1DE46B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7F33B-F491-4BDF-ADB4-AC583A2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2915E-4D65-4514-B472-B2B2F6A4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0AA6-B3A0-4D25-9287-D8F9CCA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2AA00-DB58-494F-9D63-ECB05F30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8C092-6A02-452D-949D-3546841D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FAA3B-B5C3-4F59-AB91-E271CED7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14EEF-1865-4ADB-B933-C50C08C1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E7AB3-D72C-4DC8-AFB9-E45BBAE3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E41FC-7DD3-4A78-9467-B8AD79AB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68EB8-4B2E-4693-B312-AB43AA8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777C2-7087-477A-BC2C-29E1762A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F37E9-07D5-4B69-85CA-BC789D6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6E440-4386-4EB2-AEE3-BAA354D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1CD-F999-4534-87FC-D4ABD62A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84C4-9733-4D9C-80CA-77E1765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F0910-0FAE-4728-B360-DD32449E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D2666-B658-4998-9D00-62AD698E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70D7F8-7E7D-416A-8ACE-D9FE7280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EBE3B-7463-4181-8405-0E763349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23B7E-168D-4207-BBF8-4BAB2C27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AEB1-72F5-40C7-AD00-4C3C060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325C-F765-48E6-9816-F3B6F52A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4560-2419-4B11-8118-380FFD93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5FE9-20C6-4312-B317-53F5CE19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ADC7-CD28-40BE-AB0F-2A2ED764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DDF7-FF87-4FB2-A3F6-23F817F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84CE4-4961-4037-836F-9A16CCA8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72EC-22B9-4488-A242-4926F095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963D-B333-49E2-8D8C-0C6405CF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235-689A-4DA4-961C-FABCE216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9EE8-14FD-4318-BCAA-9E02DCA3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03CB-DCB8-4F3A-9592-82C2A7C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E9D1-2CE3-466A-8EEF-0CC0C4BF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9B3D-1105-4262-AF2C-B1369A0E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56D4-3090-4C06-A0CA-12DA1FF9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C7C5-F744-47D5-B13F-FDFC36C5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3E86-41B6-4116-92F0-CA1E3121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C0546-B2A9-4F79-AB09-851C1FE8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F615-49C3-42E3-8245-FEE52B02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ABE0-536A-4310-A05F-D7B3D1BD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431-4FC9-4921-AE2D-B4A33D30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19A7-A5B8-41DF-8727-94C6640D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16108-E3AC-46B3-95A6-002F610E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B61E-6AE5-4B15-9E07-5B49B8BF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744D-5591-4801-A7FB-73912190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2AC58-BC7A-482C-B6C2-82ABF2CD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FBE2-CB2F-4915-B0B2-5207900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81B26-E2A8-40A2-B38D-6F7E22F4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FB45-0E66-49E0-89F0-D776E7DF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31A51-214B-4F62-897F-46124349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2D760-5417-4713-80E3-38925C28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23A-F83A-41FF-8FC3-18595499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6820-9296-4761-B794-865AE0C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DA081-E2DF-495C-9729-55168F7F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8FA7-0AAE-4087-B801-3C7DF8AE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3A9BE-6D76-46DD-811F-5A5261B1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BD3AB-79EE-43CE-A12C-2F5A91AE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85C5-498F-468F-BE87-19948D0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F59F5-00AF-438E-9EE4-E5B4DD9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2A1B-93A6-4BC5-837B-2B07B9F7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B1608-09B7-46CA-B30E-03B90231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6081-B5B9-458D-9748-CC7A228D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77D-E2E9-4F1A-8A58-A224A2C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CF205-D4AE-4E3F-B9D0-C3A18539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CDBB8-BD1B-4D22-8D5B-7E3BC0CA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271D-E81B-4CA9-ADA0-21D1B10C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6F8B3-57E5-4F12-A436-7576C901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6111F-6B24-48AC-A48B-81B15605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BD210-801C-49E2-B2DA-94A51120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7169A-E9AE-4B92-8CA3-00E83457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DEC20-1574-41C7-BFDC-33B6844B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921E-338F-4FB7-BE9F-4521F947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B6D02-F283-4675-B06C-ACFEB6A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F2E-8789-4397-8691-3F190D3A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F99EE-982E-4BE3-BB61-9723BA9D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CFF82-3EBF-4940-AC5F-B8256847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3907B-47C7-4B89-B535-B9E118B4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ED5DB-27A4-4A49-AEE1-7B0763B1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1347D-3BB2-4C30-959C-A61DDB04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7E447-7E6E-4FB4-88C1-17BC2DD7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544C8-B352-4FFA-BE34-ED07C89B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0E37B-9725-43EB-86B4-6D622D6D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B2C12-60DA-4D71-8BC8-D4DDA4D6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6169D-A785-41A8-9315-8F45396B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A2F-81EB-4424-9E3F-21BA5C1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EDE54-A7A1-44AE-83C0-D4D01DC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A72B-7FFD-4B1D-94B1-FF64980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2CBD2-68BF-4CE8-BCBF-C984FE0A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B0DA6-FB1E-43B6-8EC6-1053410B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6FD64-2A6D-4122-8153-71641B16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C6FD8-5BAA-4B88-BB98-49A20522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FE237-D81E-47D3-ADA0-6F2F909A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E8163-CE65-49D4-814C-2B6C3CDE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1A9EF-0A32-441D-97AE-D18B2277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3608-81C4-4B5C-9267-D09D6042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CEA-846E-411E-8457-6376EC10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B3C27-5933-4777-9DBB-5BA9571E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FBD9C-D7D5-42EB-B691-F2AB53F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B3031-1DC0-44F1-8039-FA935A06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1A505-E109-419C-8630-F4E19F76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36B88-ACB0-45F7-B907-815F1787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FF4CB-8BE0-41F7-9C75-6ADF499E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1B052-7581-4C52-90DB-CE5140DE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2BEC4-62CA-40E1-ACBD-C0479D18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0B470-E6C9-40B5-B1E2-9E38385B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E2640-0D16-4ABF-A4D4-98E58329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CCFFB-C40E-483E-A13D-A195367C849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E36B0-C805-4A26-93E2-A7C382FEF4B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59E85-6D09-4407-9403-05C2A2436F1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C9AD8-72EA-4C51-B729-BB48500F980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A64F5-F40B-43D9-9FFB-FCEEF45AF58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582F4-46C3-4818-918F-D37B65DB5BF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4E192-2089-469C-B735-DF88D77D5E5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7E491-70C4-4AB1-9030-A0081FD3025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1ADDE-10EF-4177-85BC-05F55B430DB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0FF95-6922-42B8-8897-C499C7A3711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73B35-DED2-4F1C-ADCC-BEB1A5CB963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1C127-0DCE-4733-A0A2-6E9A0B9C5B0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22BA6-B0C6-4E59-8A1A-633D32E7D20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D4BB6-51D0-4999-A411-9CB725AE9CF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717E1-F1A8-43A4-9F9E-6D125B99100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B0FEF-56F3-49A1-8C69-50A7ECC59D9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8A703-0CA2-4DC6-97B2-BE3D999F4E9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C9F68-F23D-4FD6-BD25-D24A3FE98BB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A8C6B-C969-432B-93F6-104F27EBD1A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4482E-B174-49AE-9666-0F46D2F8B04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1F7DC-7D36-4DD9-A2AE-17307390CA2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ADCEC-BC1C-4AE9-A739-BA2E311D339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3C8CF-D218-470E-845F-02E8F3740DC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D91BF-5C67-41B3-A7FF-87AA2E39ECD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E4224-C641-4A15-BCED-6A6AD714CDB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5BC96-1047-4A35-922D-FC61B465E3B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7FF88-292F-450F-B42E-4871DB4E1CA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DAE3B-969C-4790-B3F4-BF30939C128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BAD8F-915B-46D4-9F9B-928E00428F8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ECE7F-E4C1-4AD1-A844-7E84D65D6DE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BE783-794F-445D-9676-DBA2C97E05A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DDB0F-16D5-4877-BE99-592800340B4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204FE-7AC6-40B5-8796-5A8150FB0EE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A2DC7-0C39-40E4-9B68-B153C00794C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/tour.html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48hourfilm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9: New Media and Content Crea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as Metamedia 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ew media repurposes old media, combines existing media sources (e.g., photo montage, mashups, music samplin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ot a new phenomenon, (e.g., collage, 1920s avant-garde film) but much easier done with digital object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w Media as Nexus of Art and Computing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uting becomes a more right-brain, creative process - a tool to represent and create new realities vs. simply crunch numbers (although there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 lots of that still required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ternet as New Medi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ertainly efficient metamed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so envelops previous forms of content/conven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ingly software controlled (e.g., static vs. dynamic page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ebcomics show nexus of art/computing and value of digital production/distribu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Web 1.0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eb pages as simple publication - </a:t>
            </a:r>
            <a:br>
              <a:rPr sz="2400"/>
            </a:b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rochureware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atic content, little to no community participation or inp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1.0 -&gt; 2.0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troduction of community and data management system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veraging power of social networ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-driven content - dynamic page cre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 manipulation and creation by user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mocratic, open-source gen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cial” web (and version 3.0 = semantic web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SLATES (McAfee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ar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uthorshi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agg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ten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gnal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6" name="TextBox 3"/>
          <p:cNvSpPr/>
          <p:nvPr/>
        </p:nvSpPr>
        <p:spPr>
          <a:xfrm>
            <a:off x="858600" y="5664240"/>
            <a:ext cx="78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Afee, A.P (2006).  Enterprise 2.0: The Dawn of Emergent Collaboration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an Management Review, 47(3), 21-6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sloanreview.mit.edu/smr/issue/2006/spring/0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sevenhex"/>
          <p:cNvPicPr/>
          <p:nvPr/>
        </p:nvPicPr>
        <p:blipFill>
          <a:blip r:embed="rId1"/>
          <a:stretch/>
        </p:blipFill>
        <p:spPr>
          <a:xfrm>
            <a:off x="2514600" y="1905120"/>
            <a:ext cx="4178160" cy="438156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0666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nother take (Carr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TextBox 3"/>
          <p:cNvSpPr/>
          <p:nvPr/>
        </p:nvSpPr>
        <p:spPr>
          <a:xfrm>
            <a:off x="854640" y="6324480"/>
            <a:ext cx="756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, A. (2007).  Designing for Sustainable Conversations.  InteractionCamp 2007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lideshare.net/acarr/designing-sustainable-conversations-with-social-media-59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Driving traffic through social medi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do you leverage social media to popularize conten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*not* just technology – build it, they won’t come.  Wh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role of content aggregators (e.g., 4chan, digg, reddit, KYM, Buzzfeed, StumbleUpon etc.) – reintermediation in content/audience dynamic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eb analytics bas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-driven web = data footprints everywhe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 passed on by every web call: IP address, platform, browser, referral pa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ows for custom content (e.g., vague geolocation data, customization for plattorm (esp. mobile), content specific to source (e.g., welcoming visitors from particular source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erver/client interaction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TTP as stateless (implications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okies – information passed on in web calls for session/continued u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tailed information can be embedded to support future interac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mplications of thi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creation marking underway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et feedback?  If not, unlock your wiki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eedback cycle should be done by next week, so do the above ASAP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tegration of subscriber dat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istration for social media services – what information is sometimes requeste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ofile -&gt; action link interesting and valuabl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acebook as advertising platform -&gt; why would subscriber data be especially valuable in FB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Youtube analytics – age info likely from profil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earch Engine Optimization (SEO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do you get to Page 1 of Googl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an (and should) happen naturally, but underhanded/unethical techniques common (examples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better technique: create good cont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ttp://igniteshow.com/videos/oatmeal-how-get-5-million-people-read-your-website-ep-69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Online advertis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dvertising = not really viral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oogle Adwords = targeted to keyword searches, loca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acebook ads = potentially targeted to a range of other interes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ore on all this?  Take CCT356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eekly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www.google.com/analytics/tour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information could you learn about viewers of your meme using such a tool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could this information be valuable in refining meme and its propagatio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anovich</a:t>
            </a:r>
            <a:r>
              <a:rPr b="0" lang="ja-JP" sz="4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s LNM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Language of New Media - distilling the core essence of new media into eight propositions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More of a media form/genre definition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N.B.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ew Media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is not a chronological term (although contemporary media are more likely to be 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vs. Cybercultur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oposes a distinction - new media studies forms and codes vs. social effect (e.g., media use studies, cultural studies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cknowledges cyberculture as interesting but a different field entire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as Distribu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oks at new media explicitly as channel - digital transmission, in whatever for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presentation in digital form is increasingly common - exampl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mitations of this approach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as Software Controlled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data structures, modularity, automation to create the cultural for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igital photography/video as example; due to common technical standards for coding and manipulation, media objects can be shared and manipulated (sometimes automatically) with ea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ther examples - e.g., dynamic web pages, Google AdSen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ultural convention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even development - just because you can represent and manipulate something in digital form doesn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 mean it will work will in practice (e.g., digital actors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orph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osite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- earlier conceptual models survive transition to new media and impact its form (e.g., desktop metaphor vs. alternative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esthetics of New Medi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ew media technologies create their own established aesthetic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DV movies and cheaper amateur production (e.g., </a:t>
            </a: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48hourfilm.com/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YouTube, vblogging, etc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as Effici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uting technology executes various tasks considerably faster - e.g., 3D animation, composite photograph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fficiency opens up new possibilities that were not present befo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1-10T19:57:29Z</dcterms:modified>
  <cp:revision>78</cp:revision>
  <dc:subject/>
  <dc:title>CCT 300: Critical Analysis  of Media</dc:title>
</cp:coreProperties>
</file>